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34D-DCB1-4D4D-A070-DD55A438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98F-881D-48DD-A4B4-4C9B13D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721-6B84-48B8-9DB8-1B1CBC42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D92-743D-4483-81BC-E31D7F70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E96-80EB-4A80-846B-29940D53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0D3-71B8-4E97-94BB-5C8DD64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2F7-50C4-4D1A-B490-6E4EA86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7B3-CAB2-4E62-BECE-5EC37C2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B21-86B2-4FEA-8279-189A7F1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217-712F-401C-9718-B612463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08B-EFCC-4CAC-A0AB-A19A413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E68-3DD6-4DD1-8A57-FD288F7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7C4E-F225-4E70-9A07-D950D512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F%20adatb&#225;zis.ppt" TargetMode="External"/><Relationship Id="rId3" Type="http://schemas.openxmlformats.org/officeDocument/2006/relationships/hyperlink" Target="file:///GF%20SEM%20k&#233;pek.ppt" TargetMode="External"/><Relationship Id="rId4" Type="http://schemas.openxmlformats.org/officeDocument/2006/relationships/hyperlink" Target="file:///GF%20SEM%20k&#233;pek.ppt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0606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MPONTOK A PAKSI ATOMERŐMŰ GŐZFEJLESZTŐINEK HATÉKONY DEKONTAMINÁLÁSÁHO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36572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ó Krisztiá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Varga Kálmá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chunk Jáno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diokémia Tanszék, Veszprémi Egyetem, 8201 Veszprém, Pf:1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ksi Atomerőmű Rt., Vegyészeti Főosztály, 7031 Paks, Pf. 7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5429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96360" y="404640"/>
            <a:ext cx="1258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1480" y="98100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chnológia kialakításának szükségessége, lehető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ükségessé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AP-CITROX eljárás paksi atomerőműben rendszeresített változata nagy acélfelületekkel rendelkező berendezések (pl. gőzfejlesztők) dekontaminálására, felületi kezelésére alkalmatlan. Az atomerőmű gőzfejlesztőinek jelenlegi állapota és a megfelelő technológia hiánya -a kívánt hosszú üzemidő elérése érdekében- szükségessé teszik a kémiai oldatok on-line tisztításán alapuló dekontaminációs, felületkezelő eljárások alkalmazási lehetőségeinek áttekintés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53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Lehetősé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004. Október 15. – 2006. December 31.: Kooperációs Kutató Központ keretén belül részprojekt indul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Élettartam-menedzselés a Paksi Atomerőműben a reaktorblokkok korróziós állapotának tematikus vizsgálatával”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ímmel. A munka keretén belül egyik célunk a paksi atomerőműben alkalmazható dekontaminációs technológia kifejleszté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42900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tenciális eljárások optimálására alkalmas félüzemi cirkulációs rendszer kifejleszt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3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ideális technológia kialakításának foly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907920"/>
            <a:ext cx="85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émiai oldatok koncentráció-szabályzásán (on-line tisztításán) alapuló kémiai dekontaminációs és felületkezelő technológiákra vonatkozó adatok irodalmi áttekintése, tekintetbe vé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 speciális paksi felületekre való alkalmazhatóságo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z oxidrétegek tökéletes, homogén eltávolításának feladatát ille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lehetőség szerint a Paksi Atomerőműben jelen lévő technológia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áttér alkalmazhatóság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653000"/>
            <a:ext cx="864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otenciális eljárás(ok) tesztelése a Paksi Atomerőmű Rt. által biztosított gőzfejlesztő hőátadó csövekben. Áramlási sebesség, kontaktidő, kémiai koncentrációk, hőmérséklet optimálása figyelembe véve a dekontamináló oldatba beoldódó radionuklidok aktivitás-koncentrációját, illetve a korróziótermékek kémiai koncentrációj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0200" y="18900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ális technológiára vonatkozó irodalmi adatok feldolgozásának sém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00280"/>
            <a:ext cx="1728720" cy="32724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lület állapotának javulá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kontaminációs hatás (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133720"/>
            <a:ext cx="2374920" cy="64656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ógia Alap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kontaminációs technológiá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pari felületkezelési technológiá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781360"/>
            <a:ext cx="3205440" cy="70884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Arial"/>
              </a:rPr>
              <a:t>Folyamatok jellege: oxidatív; reduktív; oxidatív-reduktív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Arial"/>
              </a:rPr>
              <a:t>Domináns rétegeltávolító hatás (oldó-, vagy eróziós hatá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Arial"/>
              </a:rPr>
              <a:t>Alkalmazott kémiai vegyszerek (minőség, mennyisé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Arial"/>
              </a:rPr>
              <a:t>Paraméterek: Áramlási sebesség, Hőmérséklet, </a:t>
            </a:r>
            <a:br>
              <a:rPr sz="800"/>
            </a:br>
            <a:r>
              <a:rPr b="1" lang="hu-HU" sz="800" spc="-1" strike="noStrike">
                <a:solidFill>
                  <a:srgbClr val="000000"/>
                </a:solidFill>
                <a:latin typeface="Arial"/>
              </a:rPr>
              <a:t>nyomás, kontaktid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4724280"/>
            <a:ext cx="2449440" cy="6094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ső felületre jellemző korróziós állapot (összetétel, struktúra, mobilitá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ziválhatósá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kontamináci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3429000"/>
            <a:ext cx="2592360" cy="25812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ógiai Megvalós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640" y="134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58136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34936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092720" y="126828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852640"/>
            <a:ext cx="0" cy="57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659640" y="1773360"/>
            <a:ext cx="2160360" cy="360360"/>
            <a:chOff x="6659640" y="1773360"/>
            <a:chExt cx="2160360" cy="360360"/>
          </a:xfrm>
        </p:grpSpPr>
        <p:sp>
          <p:nvSpPr>
            <p:cNvPr id="65" name=""/>
            <p:cNvSpPr/>
            <p:nvPr/>
          </p:nvSpPr>
          <p:spPr>
            <a:xfrm>
              <a:off x="6659640" y="1773360"/>
              <a:ext cx="2124000" cy="215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4c4c4"/>
                </a:gs>
              </a:gsLst>
              <a:lin ang="81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őzfejlesztő adatbáz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>
              <a:hlinkClick r:id="rId2"/>
            </p:cNvPr>
            <p:cNvSpPr/>
            <p:nvPr/>
          </p:nvSpPr>
          <p:spPr>
            <a:xfrm>
              <a:off x="6804000" y="1773360"/>
              <a:ext cx="2016000" cy="360360"/>
            </a:xfrm>
            <a:custGeom>
              <a:avLst/>
              <a:gdLst>
                <a:gd name="textAreaLeft" fmla="*/ 23040 w 2016000"/>
                <a:gd name="textAreaRight" fmla="*/ 1992960 w 20160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120740" h="21600">
                  <a:moveTo>
                    <a:pt x="0" y="0"/>
                  </a:moveTo>
                  <a:lnTo>
                    <a:pt x="120740" y="0"/>
                  </a:lnTo>
                  <a:lnTo>
                    <a:pt x="120740" y="21600"/>
                  </a:lnTo>
                  <a:lnTo>
                    <a:pt x="0" y="21600"/>
                  </a:lnTo>
                  <a:close/>
                </a:path>
                <a:path fill="lightenLess" w="120740" h="21600">
                  <a:moveTo>
                    <a:pt x="0" y="0"/>
                  </a:moveTo>
                  <a:lnTo>
                    <a:pt x="120740" y="0"/>
                  </a:lnTo>
                  <a:lnTo>
                    <a:pt x="119340" y="1400"/>
                  </a:lnTo>
                  <a:lnTo>
                    <a:pt x="1400" y="1400"/>
                  </a:lnTo>
                  <a:close/>
                </a:path>
                <a:path fill="darken" w="120740" h="21600">
                  <a:moveTo>
                    <a:pt x="120740" y="0"/>
                  </a:moveTo>
                  <a:lnTo>
                    <a:pt x="120740" y="21600"/>
                  </a:lnTo>
                  <a:lnTo>
                    <a:pt x="119340" y="20200"/>
                  </a:lnTo>
                  <a:lnTo>
                    <a:pt x="119340" y="1400"/>
                  </a:lnTo>
                  <a:close/>
                </a:path>
                <a:path fill="darkenLess" w="120740" h="21600">
                  <a:moveTo>
                    <a:pt x="12074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9340" y="20200"/>
                  </a:lnTo>
                  <a:close/>
                </a:path>
                <a:path fill="lighten" w="12074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120740" h="21600">
                  <a:moveTo>
                    <a:pt x="6037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120740" h="21600">
                  <a:moveTo>
                    <a:pt x="6037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120740" h="21600">
                  <a:moveTo>
                    <a:pt x="57794" y="8224"/>
                  </a:moveTo>
                  <a:lnTo>
                    <a:pt x="61658" y="8224"/>
                  </a:lnTo>
                  <a:lnTo>
                    <a:pt x="61658" y="15221"/>
                  </a:lnTo>
                  <a:lnTo>
                    <a:pt x="62946" y="15221"/>
                  </a:lnTo>
                  <a:lnTo>
                    <a:pt x="62946" y="16144"/>
                  </a:lnTo>
                  <a:lnTo>
                    <a:pt x="57794" y="16144"/>
                  </a:lnTo>
                  <a:lnTo>
                    <a:pt x="57794" y="15221"/>
                  </a:lnTo>
                  <a:lnTo>
                    <a:pt x="59082" y="15221"/>
                  </a:lnTo>
                  <a:lnTo>
                    <a:pt x="59082" y="9129"/>
                  </a:lnTo>
                  <a:lnTo>
                    <a:pt x="57794" y="91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40360" y="386064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292640"/>
            <a:ext cx="2663640" cy="2764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ületkémiai és korróziós ha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472428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5300640"/>
            <a:ext cx="1512720" cy="2764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lladékkezel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6308640"/>
            <a:ext cx="3024000" cy="2764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kleáris Biztonság, Költséganalíz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58053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148360" y="692280"/>
            <a:ext cx="3744720" cy="459000"/>
            <a:chOff x="5148360" y="692280"/>
            <a:chExt cx="3744720" cy="459000"/>
          </a:xfrm>
        </p:grpSpPr>
        <p:sp>
          <p:nvSpPr>
            <p:cNvPr id="74" name=""/>
            <p:cNvSpPr/>
            <p:nvPr/>
          </p:nvSpPr>
          <p:spPr>
            <a:xfrm>
              <a:off x="5148360" y="692280"/>
              <a:ext cx="3744720" cy="459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4c4c4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kalmasság a PA RT. speciális gőzfejlesztő ausztenites acélfelületeinek kezelésé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>
              <a:hlinkClick r:id="rId3"/>
            </p:cNvPr>
            <p:cNvSpPr/>
            <p:nvPr/>
          </p:nvSpPr>
          <p:spPr>
            <a:xfrm>
              <a:off x="5219640" y="765000"/>
              <a:ext cx="3600360" cy="360360"/>
            </a:xfrm>
            <a:custGeom>
              <a:avLst/>
              <a:gdLst>
                <a:gd name="textAreaLeft" fmla="*/ 23040 w 3600360"/>
                <a:gd name="textAreaRight" fmla="*/ 3577320 w 360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5612" h="21600">
                  <a:moveTo>
                    <a:pt x="0" y="0"/>
                  </a:moveTo>
                  <a:lnTo>
                    <a:pt x="215612" y="0"/>
                  </a:lnTo>
                  <a:lnTo>
                    <a:pt x="215612" y="21600"/>
                  </a:lnTo>
                  <a:lnTo>
                    <a:pt x="0" y="21600"/>
                  </a:lnTo>
                  <a:close/>
                </a:path>
                <a:path fill="lightenLess" w="215612" h="21600">
                  <a:moveTo>
                    <a:pt x="0" y="0"/>
                  </a:moveTo>
                  <a:lnTo>
                    <a:pt x="215612" y="0"/>
                  </a:lnTo>
                  <a:lnTo>
                    <a:pt x="214212" y="1400"/>
                  </a:lnTo>
                  <a:lnTo>
                    <a:pt x="1400" y="1400"/>
                  </a:lnTo>
                  <a:close/>
                </a:path>
                <a:path fill="darken" w="215612" h="21600">
                  <a:moveTo>
                    <a:pt x="215612" y="0"/>
                  </a:moveTo>
                  <a:lnTo>
                    <a:pt x="215612" y="21600"/>
                  </a:lnTo>
                  <a:lnTo>
                    <a:pt x="214212" y="20200"/>
                  </a:lnTo>
                  <a:lnTo>
                    <a:pt x="214212" y="1400"/>
                  </a:lnTo>
                  <a:close/>
                </a:path>
                <a:path fill="darkenLess" w="215612" h="21600">
                  <a:moveTo>
                    <a:pt x="2156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212" y="20200"/>
                  </a:lnTo>
                  <a:close/>
                </a:path>
                <a:path fill="lighten" w="2156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5612" h="21600">
                  <a:moveTo>
                    <a:pt x="107806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215612" h="21600">
                  <a:moveTo>
                    <a:pt x="107806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215612" h="21600">
                  <a:moveTo>
                    <a:pt x="105230" y="8224"/>
                  </a:moveTo>
                  <a:lnTo>
                    <a:pt x="109094" y="8224"/>
                  </a:lnTo>
                  <a:lnTo>
                    <a:pt x="109094" y="15221"/>
                  </a:lnTo>
                  <a:lnTo>
                    <a:pt x="110382" y="15221"/>
                  </a:lnTo>
                  <a:lnTo>
                    <a:pt x="110382" y="16144"/>
                  </a:lnTo>
                  <a:lnTo>
                    <a:pt x="105230" y="16144"/>
                  </a:lnTo>
                  <a:lnTo>
                    <a:pt x="105230" y="15221"/>
                  </a:lnTo>
                  <a:lnTo>
                    <a:pt x="106518" y="15221"/>
                  </a:lnTo>
                  <a:lnTo>
                    <a:pt x="106518" y="9129"/>
                  </a:lnTo>
                  <a:lnTo>
                    <a:pt x="105230" y="91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0920" y="3357720"/>
            <a:ext cx="1727280" cy="56844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eratív - Nem regeneratí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öntéshozatal kémiai szempontok alapjá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920" y="3645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4000" y="692280"/>
            <a:ext cx="2663640" cy="459000"/>
            <a:chOff x="324000" y="692280"/>
            <a:chExt cx="2663640" cy="459000"/>
          </a:xfrm>
        </p:grpSpPr>
        <p:sp>
          <p:nvSpPr>
            <p:cNvPr id="79" name=""/>
            <p:cNvSpPr/>
            <p:nvPr/>
          </p:nvSpPr>
          <p:spPr>
            <a:xfrm>
              <a:off x="324000" y="692280"/>
              <a:ext cx="2663640" cy="459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4c4c4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felületi oxidréteg tökéletes, homogén oldá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>
              <a:hlinkClick r:id="rId4"/>
            </p:cNvPr>
            <p:cNvSpPr/>
            <p:nvPr/>
          </p:nvSpPr>
          <p:spPr>
            <a:xfrm>
              <a:off x="395280" y="692280"/>
              <a:ext cx="2448000" cy="431640"/>
            </a:xfrm>
            <a:custGeom>
              <a:avLst/>
              <a:gdLst>
                <a:gd name="textAreaLeft" fmla="*/ 27720 w 2448000"/>
                <a:gd name="textAreaRight" fmla="*/ 2420280 w 244800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122418" h="21600">
                  <a:moveTo>
                    <a:pt x="0" y="0"/>
                  </a:moveTo>
                  <a:lnTo>
                    <a:pt x="122418" y="0"/>
                  </a:lnTo>
                  <a:lnTo>
                    <a:pt x="122418" y="21600"/>
                  </a:lnTo>
                  <a:lnTo>
                    <a:pt x="0" y="21600"/>
                  </a:lnTo>
                  <a:close/>
                </a:path>
                <a:path fill="lightenLess" w="122418" h="21600">
                  <a:moveTo>
                    <a:pt x="0" y="0"/>
                  </a:moveTo>
                  <a:lnTo>
                    <a:pt x="122418" y="0"/>
                  </a:lnTo>
                  <a:lnTo>
                    <a:pt x="121018" y="1400"/>
                  </a:lnTo>
                  <a:lnTo>
                    <a:pt x="1400" y="1400"/>
                  </a:lnTo>
                  <a:close/>
                </a:path>
                <a:path fill="darken" w="122418" h="21600">
                  <a:moveTo>
                    <a:pt x="122418" y="0"/>
                  </a:moveTo>
                  <a:lnTo>
                    <a:pt x="122418" y="21600"/>
                  </a:lnTo>
                  <a:lnTo>
                    <a:pt x="121018" y="20200"/>
                  </a:lnTo>
                  <a:lnTo>
                    <a:pt x="121018" y="1400"/>
                  </a:lnTo>
                  <a:close/>
                </a:path>
                <a:path fill="darkenLess" w="122418" h="21600">
                  <a:moveTo>
                    <a:pt x="1224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21018" y="20200"/>
                  </a:lnTo>
                  <a:close/>
                </a:path>
                <a:path fill="lighten" w="1224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68360" y="5084640"/>
            <a:ext cx="1727280" cy="76356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c4c4c4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hulladék kezelhetősé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nnyisége, Minősége, Koncentrációja, Aktivitá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énzügyi, Technológiai döntéshoz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40000" y="551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907920"/>
            <a:ext cx="7905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284360" y="907920"/>
            <a:ext cx="718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8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kolt egy, a kémiai oldatok koncentráció-szabályzásán (on-line tisztításán) alapuló kémiai dekontaminációs és felületkezelő technológia kifejlesztése, amely során alapvető jelentőségű az alábbi szempontok érvényesíté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16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 speciális paksi felületekre való alkalmazható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z oxidrétegek tökéletes, homogén eltávolításának fel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6064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rodalmi adatbázis áttekin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otenciális eljárások optimálására alkalmas félüzemi cirkuláció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endszer kifejleszt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otenciális eljárás(ok) tesztelése a Paksi Atomerőmű Rt. ált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iztosított gőzfejlesztő hőátadó csövek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84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chnológia kialakításának lépés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3:32:11Z</dcterms:created>
  <dc:creator>Gregor</dc:creator>
  <dc:description/>
  <dc:language>en-US</dc:language>
  <cp:lastModifiedBy>Gregor</cp:lastModifiedBy>
  <dcterms:modified xsi:type="dcterms:W3CDTF">2004-10-11T17:19:54Z</dcterms:modified>
  <cp:revision>72</cp:revision>
  <dc:subject/>
  <dc:title>1. dia</dc:title>
</cp:coreProperties>
</file>